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0913F-1A94-4902-A5C6-5199E6AD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F65B1-B507-4637-873E-3D2D2D38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9A17D-BA79-4EDC-85A3-0452B364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DD0DE-21E3-4C7C-8A1F-8BAA336E4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6B24-698A-45DA-BE82-E80CC298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0452-1082-4301-9E1F-8511D8F1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2E8E-D678-4FB1-BB98-B136326D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47F7-4972-4B59-8475-3BBF9332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D092-FB22-4641-A5C1-599FE90C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5CD4-ED6A-4FC0-B1CB-F0408E8E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D20E-32EA-44FB-9285-15020D20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56690-B22B-49CC-940A-16D70D15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4AF3-0A0A-419D-BF0A-0A082329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3380-3ADD-4674-9235-3D3CAD55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C1F9-413B-4612-9EC7-35B49DAC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16F1-3092-4ED1-A70F-3DE726C55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1483-8871-47E9-AD3D-3BFEC7D1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2876C-EF7D-4BA8-B492-B23F28A8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C2B30-036F-4223-AB4F-B5939168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7E546-545E-4DBF-A6D8-D8FEC53F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48508-7656-4F0C-B655-2904078E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1273B-7889-4C05-94E2-10809D4B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E5CA2-E936-4022-A25E-32B922AD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F04BC-24F8-426D-9D3A-FAFD1F06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CADE-B63D-4DB4-82B2-999F3F730AA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6AE2-7DA6-41A3-BFE6-09A1C806BB9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557000"/>
            <a:ext cx="601992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TEMA 5: LA COORDINACIÓN DE NUESTRO ORGANIS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94920" y="4266720"/>
            <a:ext cx="85964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47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 u="sng">
                <a:solidFill>
                  <a:srgbClr val="000000"/>
                </a:solidFill>
                <a:uFillTx/>
                <a:latin typeface="Arial"/>
              </a:rPr>
              <a:t>ÍNDIC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LA COORDINACIÓN NERVIOS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SISTEMA NERVIOSO CENTR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EL SISTEMA NERVIOSO PERIFÉRIC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LA NEURONA: UNIDAD DEL SISTEMA NERVIOS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ALTERACIONES EN EL SISTEMA NERVIOS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INFLUENCIA DEL MEDIO EN LA SALUD MENT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LA COORDINACIÓN HORMON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EL EQUILIBRIO HORMON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LAS DROGAS DAÑAN LA SALU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6. INFLUENCIA DEL MEDIO EN LA SALUD MEN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072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ublicidad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forma y persuade imponiendo modas y hábitos de vida creando nuevas neces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ratamient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ctitud crítica e inteligente, fuerte person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sión del grupo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mpañeros influyen en nuestras decisiones sin darnos cue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ratamient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ctitud crítica e inteligente, fuerte personalidad, confianza en sí mis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strés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stado de permanente angustia y ansiedad provocado por situaciones o cambios que afectan a nuestra v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ratamient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evitar o reducir las causas de estrés, dormir, ejercicio físico, ejercicios de relajación, alimentación equilibrada, evitar tranquilizantes, droga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457200"/>
            <a:ext cx="896472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7. LA COORDINACIÓN HORM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istema endocrino u hormonal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tá formado por el conjunto de glándulas que segregan hormonas en la sang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ándula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órganos formados por células especializadas en fabricar y segregar sustancias. Se clasific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Endocrinas (hipófisis, tiroides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fabrican hormo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que vierten a la sang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Exocrinas (sudoríparas, salivales, hígado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que vierten sus secreciones al exterior d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rganismo o al tubo digestivo. No forman par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l sistema endocri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Mixtas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producen hormonas y otras sustanc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Las hormon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son mensajeros químicos de naturaleza lipídica o proteica que (transportados por la sangre) regulan determinadas funciones. S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racterizan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 </a:t>
            </a:r>
            <a:r>
              <a:rPr b="0" lang="es-ES" sz="1800" spc="-1" strike="noStrike">
                <a:solidFill>
                  <a:srgbClr val="00007d"/>
                </a:solidFill>
                <a:latin typeface="Arial"/>
              </a:rPr>
              <a:t>específic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ólo actúan sobre su célula di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 </a:t>
            </a:r>
            <a:r>
              <a:rPr b="0" lang="es-ES" sz="1800" spc="-1" strike="noStrike">
                <a:solidFill>
                  <a:srgbClr val="00007d"/>
                </a:solidFill>
                <a:latin typeface="Arial"/>
              </a:rPr>
              <a:t>muy eficac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se necesitan pocas cantida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 </a:t>
            </a:r>
            <a:r>
              <a:rPr b="0" lang="es-ES" sz="1800" spc="-1" strike="noStrike">
                <a:solidFill>
                  <a:srgbClr val="00007d"/>
                </a:solidFill>
                <a:latin typeface="Arial"/>
              </a:rPr>
              <a:t>produ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tá </a:t>
            </a:r>
            <a:r>
              <a:rPr b="0" lang="es-ES" sz="1800" spc="-1" strike="noStrike">
                <a:solidFill>
                  <a:srgbClr val="00007d"/>
                </a:solidFill>
                <a:latin typeface="Arial"/>
              </a:rPr>
              <a:t>controlad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exceso o déficit = enfermeda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sm_0154"/>
          <p:cNvPicPr/>
          <p:nvPr/>
        </p:nvPicPr>
        <p:blipFill>
          <a:blip r:embed="rId1"/>
          <a:stretch/>
        </p:blipFill>
        <p:spPr>
          <a:xfrm>
            <a:off x="6227640" y="2205000"/>
            <a:ext cx="262728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jemplo: “control de azúcar en sangr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cantidad de glucosa en sangre está controlada por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dos hormonas segregadas por el páncre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sulin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7d"/>
                </a:solidFill>
                <a:latin typeface="Arial"/>
              </a:rPr>
              <a:t>↓ glucosa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sang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ucagón</a:t>
            </a:r>
            <a:r>
              <a:rPr b="0" lang="es-ES" sz="1600" spc="-1" strike="noStrike">
                <a:solidFill>
                  <a:srgbClr val="00007d"/>
                </a:solidFill>
                <a:latin typeface="Arial"/>
              </a:rPr>
              <a:t>: ↑ glucosa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sang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ontrol de glucos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ras la digestión la sangre está cargada de glucosa. Ésta atraviesa el páncreas y estimula la secreción de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sul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insulina lleva la glucosa a determinados órganos, l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macena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forma de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glucógeno en el hígado y múscul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o transforma el exceso de glucosa en grasa (tejido adipos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uando el nivel de glucosa en sangre es bajo, el páncreas produce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ucagó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que estimula la liberación de glucosa desde el hígado y múscu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control-glucosa"/>
          <p:cNvPicPr/>
          <p:nvPr/>
        </p:nvPicPr>
        <p:blipFill>
          <a:blip r:embed="rId1"/>
          <a:stretch/>
        </p:blipFill>
        <p:spPr>
          <a:xfrm>
            <a:off x="1476360" y="3832200"/>
            <a:ext cx="655164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8. EL EQUILIBRIO HORM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69138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ipófisi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 una pequeña glándula situada en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ase del cerebro que controla el funcionamient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actividad hormonal y otras glándul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Mecanismo de ac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hipófisis fabrica hormonas trópicas que vierte a la sang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ormonas trópic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imulan la secreción de 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ormon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uando llega a la glánd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aumento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xcesivo de la hormona en sangre inhibe a la hipófisi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e cesa la producción de hormonas tróp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alta de hormonas trópic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hibe a su vez la producción de la hormona por la glánd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lteraciones en el equilibrio hormo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teraciones en el crecimiento (hormona del crecimiento, exceso o defect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teraciones en el metabolismo (hormona tiroidea: exceso produce obesidad, defecto lo contrari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teraciones en el nivel de glucosa (hiperglucemia o hipoglucemi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hipo"/>
          <p:cNvPicPr/>
          <p:nvPr/>
        </p:nvPicPr>
        <p:blipFill>
          <a:blip r:embed="rId1"/>
          <a:stretch/>
        </p:blipFill>
        <p:spPr>
          <a:xfrm>
            <a:off x="6659640" y="1197000"/>
            <a:ext cx="22572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" dur="500"/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456840"/>
            <a:ext cx="896472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9. LAS DROGAS DAÑAN LA SALU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drogas son sustancia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óxic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producen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ependenc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generan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oleranc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ipos de drog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Depresor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barbitúricos, tranquilizantes, alcohol) sedan al S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Narcótic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opio, morfina, heroína) mitigan el dolor y producen sueño y estup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stimulant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cocaína, nicotina, anfetaminas, éxtasis) estimulan el SNC y crean sensación de euf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lucinógen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LDS, derivados del cannabis) producen alucinaciones, depresiones, enfermedades mentales, alteraciones de la person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cerebro_drogas"/>
          <p:cNvPicPr/>
          <p:nvPr/>
        </p:nvPicPr>
        <p:blipFill>
          <a:blip r:embed="rId1"/>
          <a:stretch/>
        </p:blipFill>
        <p:spPr>
          <a:xfrm>
            <a:off x="1547640" y="4076640"/>
            <a:ext cx="6409080" cy="263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339408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RESUM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mapa"/>
          <p:cNvPicPr/>
          <p:nvPr/>
        </p:nvPicPr>
        <p:blipFill>
          <a:blip r:embed="rId1"/>
          <a:stretch/>
        </p:blipFill>
        <p:spPr>
          <a:xfrm>
            <a:off x="971640" y="1268280"/>
            <a:ext cx="7200720" cy="540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RESUM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mapa3"/>
          <p:cNvPicPr/>
          <p:nvPr/>
        </p:nvPicPr>
        <p:blipFill>
          <a:blip r:embed="rId1"/>
          <a:stretch/>
        </p:blipFill>
        <p:spPr>
          <a:xfrm>
            <a:off x="179280" y="1773360"/>
            <a:ext cx="8604360" cy="396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1. LA COORDINACIÓN NERVIO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funcionamiento de los diferentes órganos y sistemas están coordinados por el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stema nervios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movilización de recursos energéticos están regulados por el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stema horm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rganización del sistema nervios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istema nervioso centr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7d"/>
                </a:solidFill>
                <a:latin typeface="Arial"/>
              </a:rPr>
              <a:t>Encéfalo y médula esp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cibe y procesa información para coordinar las funciones corpo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istema nervioso periféric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7d"/>
                </a:solidFill>
                <a:latin typeface="Arial"/>
              </a:rPr>
              <a:t>Nervios;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conectan el sistema nervioso central con el resto de órganos del cuer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nsmite la información al sistema nervioso central y conduce las órdenes a los órganos que las ejecut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2. SISTEMA NERVIOSO CENT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 forman el encéfalo y la médula espinal que están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rotegidos po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s envolturas membranosas (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ening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estructura ós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ráne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l encéfa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értebr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a médu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imagen555"/>
          <p:cNvPicPr/>
          <p:nvPr/>
        </p:nvPicPr>
        <p:blipFill>
          <a:blip r:embed="rId1"/>
          <a:stretch/>
        </p:blipFill>
        <p:spPr>
          <a:xfrm>
            <a:off x="5292720" y="3933720"/>
            <a:ext cx="3211560" cy="2924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snc"/>
          <p:cNvPicPr/>
          <p:nvPr/>
        </p:nvPicPr>
        <p:blipFill>
          <a:blip r:embed="rId2"/>
          <a:stretch/>
        </p:blipFill>
        <p:spPr>
          <a:xfrm>
            <a:off x="684360" y="4005360"/>
            <a:ext cx="414972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2915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structura del SN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ncéfal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 form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erebr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dividido en dos hemisferios con circunvoluciones y sur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parte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ás externa (corteza cerebral) está formada por </a:t>
            </a:r>
            <a:r>
              <a:rPr b="1" lang="es-ES" sz="1600" spc="-1" strike="noStrike">
                <a:solidFill>
                  <a:srgbClr val="00007d"/>
                </a:solidFill>
                <a:latin typeface="Arial"/>
              </a:rPr>
              <a:t>sustancia gris</a:t>
            </a:r>
            <a:r>
              <a:rPr b="0" lang="es-ES" sz="1600" spc="-1" strike="noStrike">
                <a:solidFill>
                  <a:srgbClr val="00007d"/>
                </a:solidFill>
                <a:latin typeface="Arial"/>
              </a:rPr>
              <a:t>.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cibe información y elabora respuest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parte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ás interna tiene </a:t>
            </a:r>
            <a:r>
              <a:rPr b="1" lang="es-ES" sz="1600" spc="-1" strike="noStrike">
                <a:solidFill>
                  <a:srgbClr val="00007d"/>
                </a:solidFill>
                <a:latin typeface="Arial"/>
              </a:rPr>
              <a:t>sustancia blanca</a:t>
            </a:r>
            <a:r>
              <a:rPr b="0" lang="es-ES" sz="16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erebel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debajo del cerebro. Se divide en dos hemisferios con circunvoluciones. Coordina movimientos y permite mantener el equilib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Bulbo raquíde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enlaza el encéfalo con la parte superior de la médula espinal. Controla de forma automática importantes funciones corporales (circulación de la sangre, respiración, tubo digestiv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Médula espin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vía nerviosa a través de la cual ascienden mensajes al encéfalo y descienden las órdenes a los órganos. De ella parten 31 pares de nervios raquídeos. Gobierna movimientos reflej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part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ás externa se compone de </a:t>
            </a:r>
            <a:r>
              <a:rPr b="1" lang="es-ES" sz="1800" spc="-1" strike="noStrike">
                <a:solidFill>
                  <a:srgbClr val="00007d"/>
                </a:solidFill>
                <a:latin typeface="Arial"/>
              </a:rPr>
              <a:t>sustancia blan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part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ás interna de </a:t>
            </a:r>
            <a:r>
              <a:rPr b="1" lang="es-ES" sz="1800" spc="-1" strike="noStrike">
                <a:solidFill>
                  <a:srgbClr val="00007d"/>
                </a:solidFill>
                <a:latin typeface="Arial"/>
              </a:rPr>
              <a:t>sustancia gris</a:t>
            </a:r>
            <a:r>
              <a:rPr b="0" lang="es-ES" sz="18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3. SISTEMA NERVIOSO PERIFÉR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NP formado por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nervi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ectan el sistema nervioso central con todos los órganos del cuerp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Nervios craneal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alen del encéfa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Nervios raquíde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alen de la méd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ipos d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ervios según su fun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Nervios sensitiv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transportan información desde los órganos de los sentidos y las vísceras al S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Nervios motor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transportan las órdenes desde el SNC a los músculos y órganos encargados de realizar la respue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autonomo"/>
          <p:cNvPicPr/>
          <p:nvPr/>
        </p:nvPicPr>
        <p:blipFill>
          <a:blip r:embed="rId1"/>
          <a:stretch/>
        </p:blipFill>
        <p:spPr>
          <a:xfrm>
            <a:off x="1116000" y="4005360"/>
            <a:ext cx="3168720" cy="267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8" name="Picture 6" descr="t102485-0"/>
          <p:cNvPicPr/>
          <p:nvPr/>
        </p:nvPicPr>
        <p:blipFill>
          <a:blip r:embed="rId2"/>
          <a:stretch/>
        </p:blipFill>
        <p:spPr>
          <a:xfrm>
            <a:off x="5076720" y="4076640"/>
            <a:ext cx="32338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30240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ipos de SN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46087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Sistema nervioso somát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ponsable de acto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olunt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ervios que conectan los músculos esqueléticos con el S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724000" y="620280"/>
            <a:ext cx="31021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istema nervioso vegetativo o autónom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gula el funcionamient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volun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rvios que conectan las vísceras con el SNC. Los órganos reciben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órdenes antagónic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 través de los nerv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arasimpátic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estimulan a los órganos, para condiciones de aler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impátic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estimulan los órganos para mantener los recur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14"/>
          <p:cNvPicPr/>
          <p:nvPr/>
        </p:nvPicPr>
        <p:blipFill>
          <a:blip r:embed="rId1"/>
          <a:stretch/>
        </p:blipFill>
        <p:spPr>
          <a:xfrm>
            <a:off x="971640" y="4005360"/>
            <a:ext cx="45720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456840"/>
            <a:ext cx="889308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4. LA NEURONA: UNIDAD DEL SISTEMA NERVIO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218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Neuronas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células especializadas d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ervioso que transmiten el impulso nervio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neuronas al estar tan especializadas pierden la capacidad de reproducirse y cuando mueren </a:t>
            </a:r>
            <a:r>
              <a:rPr b="0" i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no pueden sustituirs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neuronab"/>
          <p:cNvPicPr/>
          <p:nvPr/>
        </p:nvPicPr>
        <p:blipFill>
          <a:blip r:embed="rId1"/>
          <a:stretch/>
        </p:blipFill>
        <p:spPr>
          <a:xfrm>
            <a:off x="3059280" y="4425840"/>
            <a:ext cx="324144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Nervio"/>
          <p:cNvPicPr/>
          <p:nvPr/>
        </p:nvPicPr>
        <p:blipFill>
          <a:blip r:embed="rId1"/>
          <a:stretch/>
        </p:blipFill>
        <p:spPr>
          <a:xfrm>
            <a:off x="2843280" y="2349360"/>
            <a:ext cx="2917800" cy="242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7" name="Rectangle 5"/>
          <p:cNvSpPr/>
          <p:nvPr/>
        </p:nvSpPr>
        <p:spPr>
          <a:xfrm>
            <a:off x="611280" y="494172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Funcionamiento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os impulsos nerviosos se propagan por las neuronas como corrientes eléctricas de corta du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7d"/>
                </a:solidFill>
                <a:latin typeface="Arial"/>
              </a:rPr>
              <a:t>impulso → dendritas → cuerpo neuronal → ax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conexión entre neuronas se llam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napsi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se hace mediante unas sustancias químicas llamadas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neurotransmis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539640" y="476280"/>
            <a:ext cx="842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structura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distinguen dos par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uerpo celular o som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: contiene el núcleo y la mayor parte de citoplas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rolongacion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son de dos tip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s-ES" sz="1800" spc="-1" strike="noStrike">
                <a:solidFill>
                  <a:srgbClr val="00007d"/>
                </a:solidFill>
                <a:latin typeface="Arial"/>
                <a:ea typeface="Arial"/>
              </a:rPr>
              <a:t>Dendritas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rtas y muy ramificadas. Conectan neuronas entre 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7d"/>
                </a:solidFill>
                <a:latin typeface="Arial"/>
                <a:ea typeface="Arial"/>
              </a:rPr>
              <a:t>- Axón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rga y sólo ramificada en el extremo terminal. Está protegido por mielina. Se agrupan en fibras nerviosas, fascículos y nerv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5. ALTERACIONES DEL SISTEMA NERVIO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384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stornos orgánic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alteracione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físic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los órganos del S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olp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bstrucción (trombo) o rotura (derr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fermedades infecciosas (meningit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fermedades degenerativas (</a:t>
            </a:r>
            <a:r>
              <a:rPr b="0" i="1" lang="es-ES" sz="1800" spc="-1" strike="noStrike">
                <a:solidFill>
                  <a:srgbClr val="00007d"/>
                </a:solidFill>
                <a:latin typeface="Arial"/>
              </a:rPr>
              <a:t>mal de Alzheim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03280" y="1980720"/>
            <a:ext cx="368316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stornos psíquic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son alteraciones en el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funcionamient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l SN y comportamie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ansie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epre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relacionan con factores ambientales agres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alzheimer-avanzado"/>
          <p:cNvPicPr/>
          <p:nvPr/>
        </p:nvPicPr>
        <p:blipFill>
          <a:blip r:embed="rId1"/>
          <a:stretch/>
        </p:blipFill>
        <p:spPr>
          <a:xfrm>
            <a:off x="1187280" y="4491000"/>
            <a:ext cx="22957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4:48:01Z</dcterms:created>
  <dc:creator>Meri</dc:creator>
  <dc:description/>
  <dc:language>en-US</dc:language>
  <cp:lastModifiedBy>Centor</cp:lastModifiedBy>
  <dcterms:modified xsi:type="dcterms:W3CDTF">2016-02-07T12:46:58Z</dcterms:modified>
  <cp:revision>33</cp:revision>
  <dc:subject/>
  <dc:title>TEMA 5: LOS SISTEMAS DE COORDINACIÓN</dc:title>
</cp:coreProperties>
</file>